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Neurological deficit score (NDS) in Sprague–Dawley rats on d1 and d3 after intracerebral hemorrhage (ICH);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vehicle control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all other groups. The dimethyl fumarate (DMF) was dissolved in 10% dimethyl sulfoxide (DMSO) at 15 mg/kg and injected IP at 2 h after ICH and then orally on d1 and d2.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brain edema on d3 after ICH is expressed as percent of water content in the ICH-affected brain hemispher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vehicle. Number of animals per each group is indicated above the grap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methyl fumarate (DMF)–induced gene expression pattern in wild-type (WT) and nuclear factor erythroid 2–related factor 2 knockout (Nrf2-KO) mice in brains at 48 h after intracerebral hemorrhage (ICH), determined with reverse transcription-polymerase chain reaction (RT-PCR), suggest activation of Nrf2 and amelioration of inflammatory responses with DMF. DMF (15 mg/kg) was administered IP at 2, 24, and 40 h after ICH. Except for inducible genes (HO-1, iNOS, IL-10) expression where the baseline mRNA levels are negligible and the relative densitometrical values (OD) are used to indicate alteration in mRNA, all the other gene expression changes are presented as fold changes over the WT Naïve control.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n=3–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hagocytosis index indicating the efficacy of microglia in engulfment of RBC in presence of dimethyl fumarate (DMF; 1 μM) and sulforaphane (SF; 2 μM; n=3 independent experim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vehicle control group. </a:t>
            </a:r>
            <a:r>
              <a:rPr b="1" lang="en-GB" sz="1400" spc="-1" strike="noStrike">
                <a:solidFill>
                  <a:srgbClr val="000000"/>
                </a:solidFill>
                <a:latin typeface="Arial"/>
                <a:ea typeface="msgothic"/>
              </a:rPr>
              <a:t>B–D</a:t>
            </a:r>
            <a:r>
              <a:rPr b="0" lang="en-GB" sz="1200" spc="-1" strike="noStrike">
                <a:solidFill>
                  <a:srgbClr val="000000"/>
                </a:solidFill>
                <a:latin typeface="Arial"/>
                <a:ea typeface="msgothic"/>
              </a:rPr>
              <a:t>, Representative photomicrograph of microglia (green; Phalloidin-FITC) in culture that phagocytosed RBC (red; immunolabeled for RBC) in presence of vehicl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DMF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SF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e nuclei are labeled with DAPI (blue). The arrow points at microglial cells that internalized RB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Neurological deficit score (NDS) determined in rats on d7 after intracerebral hemorrhage (ICH; n=5); dimethyl fumarate (DMF) at 15 mg/kg was injected, IP, at 2 h after ICH and then orally for 3 day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vehicle. To establish the hematoma resolution, the hemorrhage size on d7 after ICH was quantified by measuring the remnant hemoglobin (Hb) in the hematoma-affected brain tissue by Western blot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representative immunoblot) and by Drabkin’s reagen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data are expressed as mean±SEM (n=5).*</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 changes in grand neurological deficit score (NDS) in wild-type (WT) and in nuclear factor erythroid 2–related factor 2 knockout (Nrf2-KO) mice on d1, d3 after intracerebral hemorrhage (ICH). The dimethyl fumarate (DMF) at 15 mg/kg was injected IP at 24 h after ICH and then on d2 and d3 after ICH.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5 vs indicated groups. Number of animals per group is indicated above the grap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methyl Fumarate Protects Brain From Damage Produced by Intracerebral Hemorrhage by Mechanism Involving Nrf2</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iurong Zhao, Guanghua Sun, Jie Zhang, Shun-Ming Ting, Nicole Gonzales, and Jaroslaw Aronowsk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troke</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46(7):1923-192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22, 2015</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Neurological deficit score (NDS) in Sprague–Dawley rats on d1 and d3 after intracerebral hemorrhage (ICH); *P≤0.05 vs vehicle control and **P≤0.05 vs all other group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577880"/>
            <a:ext cx="8604360" cy="43974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rong Zhao et al. Stroke. 2015;46:1923-1928</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18064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methyl fumarate (DMF)–induced gene expression pattern in wild-type (WT) and nuclear factor erythroid 2–related factor 2 knockout (Nrf2-KO) mice in brains at 48 h after intracerebral hemorrhage (ICH), determined with reverse transcription-polymerase chain reaction (RT-PCR), suggest activation of Nrf2 and amelioration of inflammatory responses with DMF. DMF (15 mg/kg) was administered IP at 2, 24, and 40 h after ICH. Except for inducible genes (HO-1, iNOS, IL-10) expression where the baseline mRNA levels are negligible and the relative densitometrical values (OD) are used to indicate alteration in mRNA, all the other gene expression changes are presented as fold changes over the WT Naïve control. *P≤0.05 (n=3–4).</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111320" y="1079640"/>
            <a:ext cx="7862760" cy="5394240"/>
          </a:xfrm>
          <a:prstGeom prst="rect">
            <a:avLst/>
          </a:prstGeom>
          <a:ln w="0">
            <a:noFill/>
          </a:ln>
        </p:spPr>
      </p:pic>
      <p:sp>
        <p:nvSpPr>
          <p:cNvPr id="54" name=""/>
          <p:cNvSpPr/>
          <p:nvPr/>
        </p:nvSpPr>
        <p:spPr>
          <a:xfrm>
            <a:off x="1111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rong Zhao et al. Stroke. 2015;46:1923-1928</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Phagocytosis index indicating the efficacy of microglia in engulfment of RBC in presence of dimethyl fumarate (DMF; 1 μM) and sulforaphane (SF; 2 μM; n=3 independent experiments). *P≤0.05 vs vehicle control group.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536920" y="1079640"/>
            <a:ext cx="5011560" cy="5394240"/>
          </a:xfrm>
          <a:prstGeom prst="rect">
            <a:avLst/>
          </a:prstGeom>
          <a:ln w="0">
            <a:noFill/>
          </a:ln>
        </p:spPr>
      </p:pic>
      <p:sp>
        <p:nvSpPr>
          <p:cNvPr id="59" name=""/>
          <p:cNvSpPr/>
          <p:nvPr/>
        </p:nvSpPr>
        <p:spPr>
          <a:xfrm>
            <a:off x="253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rong Zhao et al. Stroke. 2015;46:1923-1928</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Neurological deficit score (NDS) determined in rats on d7 after intracerebral hemorrhage (ICH; n=5); dimethyl fumarate (DMF) at 15 mg/kg was injected, IP, at 2 h after ICH and then orally for 3 days. *P≤0.05 vs vehicl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739800" y="1119240"/>
            <a:ext cx="8604360" cy="531504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rong Zhao et al. Stroke. 2015;46:1923-1928</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 changes in grand neurological deficit score (NDS) in wild-type (WT) and in nuclear factor erythroid 2–related factor 2 knockout (Nrf2-KO) mice on d1, d3 after intracerebral hemorrhage (ICH).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1879560" y="1079640"/>
            <a:ext cx="6326280" cy="5394240"/>
          </a:xfrm>
          <a:prstGeom prst="rect">
            <a:avLst/>
          </a:prstGeom>
          <a:ln w="0">
            <a:noFill/>
          </a:ln>
        </p:spPr>
      </p:pic>
      <p:sp>
        <p:nvSpPr>
          <p:cNvPr id="69" name=""/>
          <p:cNvSpPr/>
          <p:nvPr/>
        </p:nvSpPr>
        <p:spPr>
          <a:xfrm>
            <a:off x="1879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rong Zhao et al. Stroke. 2015;46:1923-1928</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